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0643-438B-49D1-BA30-00ABB8CF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271-30BA-4C66-826F-1136281B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7E9-406B-4D9B-9E9B-AFC88EAF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FD5F-673D-48BD-9E18-C32DC818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0E1D-80CC-474D-8696-07A26CAA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967-FA07-40CB-8A0A-23015543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0D1-749C-4CB1-A256-D3FAAC67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5EF-6027-42A0-93A1-D1629BAF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5F8-DCB1-4431-87D6-41883F1F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D919-6741-404F-AD3E-2F45ED19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FDB-1D36-4C4E-AF5A-0BF07C16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0FF-448B-4879-851E-8E5C75D6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A7C7-501C-4DA0-8065-974F4E85A0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ARLY   ENGLAND</a:t>
            </a:r>
            <a:br>
              <a:rPr sz="5400"/>
            </a:br>
            <a:br>
              <a:rPr sz="5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om Hunter-gatherers to the Rom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 APPEA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Old Stone Age (Paleolithic)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70,000-8000 B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on of warm and ice-age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ost Britain is glaci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 level is low. Land-bridges between England and Europe. People could walk to and from the conti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ters-gatherers. Lived in caves. No cave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evidence – stone tools (flint ax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Middle Stone Age (Mesolithic)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8300 – 3500 B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mate warmer, glaciers retreated. Britain is an is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ters-gatherers started to settle for longer periods in Brit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ies began to hunt in localised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onal trend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New Stone Age (Neolithic)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3500-2500B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of agriculture (cultivation of crops and domestication of animals)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anent sett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ance of for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d on communal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es (to get fli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ult of the dead – communal buri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Bronze Age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2500-700 B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inequality between the rich and the p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al burials replaced with individual gr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ker Peop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efdoms  and ornaments of pow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ming (horse-riding equipment. Wheel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Stone Cir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900 in the British I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riginal purpose is un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rading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ncient observa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: the Lake District, the Land’s End and Wiltshire Downs (Avebury, Silbury Hill and Stonehen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62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00000" y="1125360"/>
            <a:ext cx="8244000" cy="539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tonehen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4038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Times New Roman"/>
              </a:rPr>
              <a:t>The evolution of the British Isles</a:t>
            </a:r>
            <a:br>
              <a:rPr sz="5400"/>
            </a:br>
            <a:br>
              <a:rPr sz="5400"/>
            </a:b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The geological stages of the formation of the island 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(reflected in the present landscap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2700 mln. years ag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Volcanic eruptions –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ocks in the Scottish High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000000"/>
              </a:buClr>
              <a:buFont typeface="Times New Roman"/>
              <a:buAutoNum type="arabicPlain" startAt="57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ln.  years ago-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as covered the south of Brita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r –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on of floods and drying outs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owing forests, swamp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—rottening of vegetation—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a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ormed and compressed—</a:t>
            </a:r>
            <a:br>
              <a:rPr sz="44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S.Wales, Yorkshire, Kent, N.Engla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80-200 mln. years ago –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tain was a deser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0 mln. Years ago –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ts and animals appeared a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0 mln. Years ag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s at the highest level – Britain was blanketed by the fragments of algae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to 500 m thick in some places – white cliffs of the s. coa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5 mln. years ago –succession o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~12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 temp. – 6-9 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far as to Lond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s of erosion in the Lake District, Snowdonia, Scottish High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7:09:13Z</dcterms:created>
  <dc:creator>anazarenko</dc:creator>
  <dc:description/>
  <dc:language>en-US</dc:language>
  <cp:lastModifiedBy>ALLA</cp:lastModifiedBy>
  <dcterms:modified xsi:type="dcterms:W3CDTF">2006-09-26T19:31:41Z</dcterms:modified>
  <cp:revision>3</cp:revision>
  <dc:subject/>
  <dc:title>EARLY   ENGLAND  From Hunter-gatherers to the Romans</dc:title>
</cp:coreProperties>
</file>